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B9D-0D08-4A7B-ACB3-6B9F1231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785-74D9-495C-9335-AC7C163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35B-47CF-4D0B-B317-4DD7099F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FD2-A6A5-4844-B66C-90B61A9C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021-6FDF-46E4-9D46-1936E36E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3C9-2F9E-4DF2-8470-1F5795A3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EA7-D564-4DFE-B3FB-EBEB9CF9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6CA-0BC8-4EFF-88FC-CFB7F65C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1C1-1343-453D-BA79-918BC0C8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F06-DBDE-49A4-B7B4-BB99CB59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232-E709-4213-B77D-F601C44B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BE4-2CFE-4CAC-9A7C-11E1A793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F2F0-3DF9-4494-A8DC-9062E06B3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9 Ja viem, Pán je záchrancom mojí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árou v tvár ho uzrieť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 sláv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naveky s ní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v údolí tieňov sa teš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nádherným zasľúb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ním ja sm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istý, že cieľ dosi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láskou a vrúcnosťou vďačne 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a velebiť chc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 Pán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om moj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slávy neba sa vzd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môj hrie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Golgote zomr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istotu života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ním ja sm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istý, že cieľ dosi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láskou a vrúcnosťou vďačne 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a veleb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hrobu víťazne vstal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ládne aj nad smrťou s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sláve sa vrá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na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lásky sľub zanechal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ním ja sm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istý, že cieľ dosi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láskou a vrúcnosťou vďačne 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a veleb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9:02:15Z</dcterms:modified>
  <cp:revision>20</cp:revision>
  <dc:subject/>
  <dc:title>Je veľký náš Pán, on slávy je Kráľ Nech do všetkých strán  spev vrúcnych znie chvál.</dc:title>
</cp:coreProperties>
</file>